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86D6-47FA-4761-A9CB-D1D02BF24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1E9B-3320-4D95-AAF4-AE68BCF2579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038F-BF4B-48D4-85BD-A50D9835E8B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1BCE-C417-42E2-9225-AC212552A5B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15C1-E675-44FA-A55B-301E6AD92C3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2096-88F7-4259-B704-871F8A1F996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C838-6421-4631-877C-E5D3581BC93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AEF6-29B9-463D-AE74-07B007196FC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FEB8-A471-4956-80E4-0504202EB13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D4BC-A5E4-4AF9-B420-8B2EDEF3DF5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998E-74A6-44DF-B3D5-9597F417789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8EA7-FF01-4C8B-A87D-BF602D7E3C5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11F5-14BA-459F-BF70-197D1316A8C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1321-BA2E-4790-9A85-E92B740359F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5ECC-9321-41E7-8708-33D671DFB0B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C620-54A9-42F7-958F-B2E040FA528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E5B8-62F8-42EE-9A93-8076898D5B2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AD6B-6740-482E-93B9-206AE30233E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8E06-EF75-4AED-921C-EA8C8115233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AA34-7889-407E-8168-9ED6A09988C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3712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3712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urriculumcentral.its.hawaii.edu:8080/central/core/cas.js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Curriculum Central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Kapi‘olani Community College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University of Hawai‘i 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197496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Look at what’s ther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6705360" cy="32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d703b"/>
                </a:solidFill>
                <a:uFillTx/>
                <a:latin typeface="Microsoft Sans Serif"/>
                <a:hlinkClick r:id="rId2"/>
              </a:rPr>
              <a:t>http://curriculumcentral.its.hawaii.edu:8080/central/core/cas.jsp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Email Aler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8" name="Picture 2" descr="C:\Users\Dik\Downloads\email_message.tiff"/>
          <p:cNvPicPr/>
          <p:nvPr/>
        </p:nvPicPr>
        <p:blipFill>
          <a:blip r:embed="rId2"/>
          <a:stretch/>
        </p:blipFill>
        <p:spPr>
          <a:xfrm>
            <a:off x="2448000" y="2924280"/>
            <a:ext cx="4400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Login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0" name="Picture 2" descr="C:\Users\Dik\Downloads\CC_login.tiff"/>
          <p:cNvPicPr/>
          <p:nvPr/>
        </p:nvPicPr>
        <p:blipFill>
          <a:blip r:embed="rId2"/>
          <a:stretch/>
        </p:blipFill>
        <p:spPr>
          <a:xfrm>
            <a:off x="2014560" y="2352600"/>
            <a:ext cx="5267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90720" y="2133360"/>
            <a:ext cx="7315200" cy="426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Dik\Downloads\CC_UH_login.tiff"/>
          <p:cNvPicPr/>
          <p:nvPr/>
        </p:nvPicPr>
        <p:blipFill>
          <a:blip r:embed="rId3"/>
          <a:stretch/>
        </p:blipFill>
        <p:spPr>
          <a:xfrm>
            <a:off x="1360440" y="2133720"/>
            <a:ext cx="6575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90720" y="2133360"/>
            <a:ext cx="7315200" cy="42670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"/>
          <p:cNvSpPr/>
          <p:nvPr/>
        </p:nvSpPr>
        <p:spPr>
          <a:xfrm>
            <a:off x="45385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7" name="Picture 3" descr="C:\Users\Dik\Downloads\MyTasks_sample.png"/>
          <p:cNvPicPr/>
          <p:nvPr/>
        </p:nvPicPr>
        <p:blipFill>
          <a:blip r:embed="rId3"/>
          <a:stretch/>
        </p:blipFill>
        <p:spPr>
          <a:xfrm>
            <a:off x="1886040" y="1214280"/>
            <a:ext cx="537192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90720" y="2133360"/>
            <a:ext cx="7315200" cy="4267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Users\Dik\Downloads\MyTasks_demo.tiff"/>
          <p:cNvPicPr/>
          <p:nvPr/>
        </p:nvPicPr>
        <p:blipFill>
          <a:blip r:embed="rId3"/>
          <a:stretch/>
        </p:blipFill>
        <p:spPr>
          <a:xfrm>
            <a:off x="581040" y="1738440"/>
            <a:ext cx="798192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90720" y="2133360"/>
            <a:ext cx="7315200" cy="4267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Dik\Downloads\CC_Review.tiff"/>
          <p:cNvPicPr/>
          <p:nvPr/>
        </p:nvPicPr>
        <p:blipFill>
          <a:blip r:embed="rId3"/>
          <a:stretch/>
        </p:blipFill>
        <p:spPr>
          <a:xfrm>
            <a:off x="785880" y="547560"/>
            <a:ext cx="757224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Be Careful …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Central is not perfec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rustration gets you nowhere fas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Patience is needed and appreciated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ake it one step at a time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Keep moving forward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1080" y="762120"/>
            <a:ext cx="69343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Microsoft Sans Serif"/>
              </a:rPr>
              <a:t>Peer into Your Crystal Ball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CURRICULUM CENTRAL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FRIDAY WORKSHOPS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NOV. 18 AND DEC. 2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1:00 – 4:30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MAMANE 101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COME WHENEVER YOU WANT, STAY AS LONG AS YOU WANT (UP UNTIL 4:30!!!)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MAHALO!!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What is it?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  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   </a:t>
            </a: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urriculum Central is designed to be the official archive and repository for curricular actions and information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What is it designed to do?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Provide transparency to the 10 campus courses and programs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Allow you to see any course @ any campus @ any time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What can it do right now?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urriculum Central is a source for: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The catalog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Course content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Transcript evaluation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Official course information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Who is using it right now?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urriculum Central is in use or in development at 6 out of 10 UH campuses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At KapCC, Curriculum Central is in use for course review, revision, and curriculum approval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What’s in it for You?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rystal ball information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uide students more accurately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Be more akamai about upcoming curricular activities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Serve as a student advocate in the review process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Your Role in Review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Get involved at the ground level of course outline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Know what’s coming for the students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Know what changes are going to be made and when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458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Microsoft Sans Serif"/>
              </a:rPr>
              <a:t>Review Process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9" name="Diagram 4" descr=""/>
          <p:cNvPicPr/>
          <p:nvPr/>
        </p:nvPicPr>
        <p:blipFill>
          <a:blip r:embed="rId2"/>
          <a:stretch/>
        </p:blipFill>
        <p:spPr>
          <a:xfrm>
            <a:off x="146160" y="1596960"/>
            <a:ext cx="833256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Approval Process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1" name="Content Placeholder 3" descr=""/>
          <p:cNvPicPr/>
          <p:nvPr/>
        </p:nvPicPr>
        <p:blipFill>
          <a:blip r:embed="rId2"/>
          <a:stretch/>
        </p:blipFill>
        <p:spPr>
          <a:xfrm>
            <a:off x="603360" y="2054160"/>
            <a:ext cx="7327800" cy="4273560"/>
          </a:xfrm>
          <a:prstGeom prst="rect">
            <a:avLst/>
          </a:prstGeom>
          <a:ln w="0">
            <a:noFill/>
          </a:ln>
        </p:spPr>
      </p:pic>
      <p:sp>
        <p:nvSpPr>
          <p:cNvPr id="102" name="Flowchart: Alternate Process 4"/>
          <p:cNvSpPr/>
          <p:nvPr/>
        </p:nvSpPr>
        <p:spPr>
          <a:xfrm>
            <a:off x="1219320" y="4038480"/>
            <a:ext cx="380880" cy="381240"/>
          </a:xfrm>
          <a:prstGeom prst="flowChartAlternateProcess">
            <a:avLst/>
          </a:prstGeom>
          <a:gradFill rotWithShape="0">
            <a:gsLst>
              <a:gs pos="0">
                <a:srgbClr val="d6cac2"/>
              </a:gs>
              <a:gs pos="100000">
                <a:srgbClr val="64371c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Arial"/>
              </a:rPr>
              <a:t>MKC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Down Arrow 5"/>
          <p:cNvSpPr/>
          <p:nvPr/>
        </p:nvSpPr>
        <p:spPr>
          <a:xfrm>
            <a:off x="1295280" y="3048120"/>
            <a:ext cx="152640" cy="914400"/>
          </a:xfrm>
          <a:prstGeom prst="downArrow">
            <a:avLst>
              <a:gd name="adj1" fmla="val 50000"/>
              <a:gd name="adj2" fmla="val 49921"/>
            </a:avLst>
          </a:prstGeom>
          <a:gradFill rotWithShape="0">
            <a:gsLst>
              <a:gs pos="0">
                <a:srgbClr val="d6cac2"/>
              </a:gs>
              <a:gs pos="100000">
                <a:srgbClr val="64371c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00:40:47Z</dcterms:created>
  <dc:creator>Dik</dc:creator>
  <dc:description/>
  <dc:language>en-US</dc:language>
  <cp:lastModifiedBy>SPope</cp:lastModifiedBy>
  <dcterms:modified xsi:type="dcterms:W3CDTF">2012-03-03T16:50:36Z</dcterms:modified>
  <cp:revision>17</cp:revision>
  <dc:subject/>
  <dc:title>Name of presentation</dc:title>
</cp:coreProperties>
</file>